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7CE-A88D-4787-874E-AFB756F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A15-7E3B-4C4D-8CB1-2B0CF40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8CA-CF19-40C3-8FE3-6C6E1AC9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C4B-91D9-4231-B1D1-BB1E070A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419-2ED9-4D62-A54D-C11CFA64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F81-59D7-4769-A2D2-4A435BD3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F83-3ACA-4288-B26F-89E12284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6A4-2014-4E7C-839D-DE261480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C86-35E6-44A6-95E5-4308C860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219-4D63-4A3A-B47E-DEDCF0A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07C-14DB-4203-B655-01FB806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AF6-17C5-4B05-A521-2A58CA3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6F7-80D5-4482-8248-63126F1B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80440" y="5111640"/>
            <a:ext cx="117000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9600" y="1168560"/>
            <a:ext cx="76644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 answer to the SFA iss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5760" y="369720"/>
            <a:ext cx="79977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he Edwards LifeStent 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52800" y="1701720"/>
            <a:ext cx="5003640" cy="41544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506840" y="4019400"/>
            <a:ext cx="2268000" cy="1864080"/>
            <a:chOff x="4506840" y="4019400"/>
            <a:chExt cx="2268000" cy="1864080"/>
          </a:xfrm>
        </p:grpSpPr>
        <p:sp>
          <p:nvSpPr>
            <p:cNvPr id="48" name=""/>
            <p:cNvSpPr/>
            <p:nvPr/>
          </p:nvSpPr>
          <p:spPr>
            <a:xfrm>
              <a:off x="5091480" y="5484600"/>
              <a:ext cx="168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845960" y="4057560"/>
              <a:ext cx="1104840" cy="81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364000" y="40194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4506840" y="4132080"/>
              <a:ext cx="325440" cy="1582560"/>
              <a:chOff x="4506840" y="4132080"/>
              <a:chExt cx="325440" cy="15825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4506840" y="5223600"/>
                <a:ext cx="0" cy="4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06840" y="4132080"/>
                <a:ext cx="0" cy="4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832280" y="4132080"/>
                <a:ext cx="0" cy="4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832280" y="5223600"/>
                <a:ext cx="0" cy="4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641600" y="2178000"/>
            <a:ext cx="4115160" cy="1195200"/>
            <a:chOff x="1641600" y="2178000"/>
            <a:chExt cx="4115160" cy="1195200"/>
          </a:xfrm>
        </p:grpSpPr>
        <p:sp>
          <p:nvSpPr>
            <p:cNvPr id="57" name=""/>
            <p:cNvSpPr/>
            <p:nvPr/>
          </p:nvSpPr>
          <p:spPr>
            <a:xfrm>
              <a:off x="2873880" y="2178000"/>
              <a:ext cx="288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ension / Contra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40280" y="2927160"/>
              <a:ext cx="205200" cy="446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343680" y="2895120"/>
              <a:ext cx="187200" cy="45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41600" y="2347560"/>
              <a:ext cx="1104480" cy="8193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66240" y="2338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98800" y="3494160"/>
            <a:ext cx="2468520" cy="1735920"/>
            <a:chOff x="2098800" y="3494160"/>
            <a:chExt cx="2468520" cy="1735920"/>
          </a:xfrm>
        </p:grpSpPr>
        <p:sp>
          <p:nvSpPr>
            <p:cNvPr id="63" name=""/>
            <p:cNvSpPr/>
            <p:nvPr/>
          </p:nvSpPr>
          <p:spPr>
            <a:xfrm>
              <a:off x="2099160" y="439884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659400" y="3517560"/>
              <a:ext cx="907920" cy="534600"/>
              <a:chOff x="3659400" y="3517560"/>
              <a:chExt cx="907920" cy="534600"/>
            </a:xfrm>
          </p:grpSpPr>
          <p:sp>
            <p:nvSpPr>
              <p:cNvPr id="65" name=""/>
              <p:cNvSpPr/>
              <p:nvPr/>
            </p:nvSpPr>
            <p:spPr>
              <a:xfrm>
                <a:off x="4089600" y="3517560"/>
                <a:ext cx="477720" cy="534600"/>
              </a:xfrm>
              <a:custGeom>
                <a:avLst/>
                <a:gdLst/>
                <a:ahLst/>
                <a:rect l="l" t="t" r="r" b="b"/>
                <a:pathLst>
                  <a:path w="480" h="680">
                    <a:moveTo>
                      <a:pt x="0" y="680"/>
                    </a:moveTo>
                    <a:cubicBezTo>
                      <a:pt x="40" y="444"/>
                      <a:pt x="80" y="208"/>
                      <a:pt x="144" y="104"/>
                    </a:cubicBezTo>
                    <a:cubicBezTo>
                      <a:pt x="208" y="0"/>
                      <a:pt x="328" y="40"/>
                      <a:pt x="384" y="56"/>
                    </a:cubicBezTo>
                    <a:cubicBezTo>
                      <a:pt x="440" y="72"/>
                      <a:pt x="464" y="176"/>
                      <a:pt x="480" y="20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59400" y="3517560"/>
                <a:ext cx="477720" cy="534600"/>
              </a:xfrm>
              <a:custGeom>
                <a:avLst/>
                <a:gdLst/>
                <a:ahLst/>
                <a:rect l="l" t="t" r="r" b="b"/>
                <a:pathLst>
                  <a:path w="480" h="680">
                    <a:moveTo>
                      <a:pt x="0" y="680"/>
                    </a:moveTo>
                    <a:cubicBezTo>
                      <a:pt x="40" y="444"/>
                      <a:pt x="80" y="208"/>
                      <a:pt x="144" y="104"/>
                    </a:cubicBezTo>
                    <a:cubicBezTo>
                      <a:pt x="208" y="0"/>
                      <a:pt x="328" y="40"/>
                      <a:pt x="384" y="56"/>
                    </a:cubicBezTo>
                    <a:cubicBezTo>
                      <a:pt x="440" y="72"/>
                      <a:pt x="464" y="176"/>
                      <a:pt x="480" y="20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019320" y="4642920"/>
              <a:ext cx="879120" cy="587160"/>
              <a:chOff x="3019320" y="4642920"/>
              <a:chExt cx="879120" cy="587160"/>
            </a:xfrm>
          </p:grpSpPr>
          <p:sp>
            <p:nvSpPr>
              <p:cNvPr id="68" name=""/>
              <p:cNvSpPr/>
              <p:nvPr/>
            </p:nvSpPr>
            <p:spPr>
              <a:xfrm flipH="1" flipV="1">
                <a:off x="3018960" y="4642560"/>
                <a:ext cx="462600" cy="587160"/>
              </a:xfrm>
              <a:custGeom>
                <a:avLst/>
                <a:gdLst/>
                <a:ahLst/>
                <a:rect l="l" t="t" r="r" b="b"/>
                <a:pathLst>
                  <a:path w="480" h="680">
                    <a:moveTo>
                      <a:pt x="0" y="680"/>
                    </a:moveTo>
                    <a:cubicBezTo>
                      <a:pt x="40" y="444"/>
                      <a:pt x="80" y="208"/>
                      <a:pt x="144" y="104"/>
                    </a:cubicBezTo>
                    <a:cubicBezTo>
                      <a:pt x="208" y="0"/>
                      <a:pt x="328" y="40"/>
                      <a:pt x="384" y="56"/>
                    </a:cubicBezTo>
                    <a:cubicBezTo>
                      <a:pt x="440" y="72"/>
                      <a:pt x="464" y="176"/>
                      <a:pt x="480" y="20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3435480" y="4642560"/>
                <a:ext cx="462600" cy="587160"/>
              </a:xfrm>
              <a:custGeom>
                <a:avLst/>
                <a:gdLst/>
                <a:ahLst/>
                <a:rect l="l" t="t" r="r" b="b"/>
                <a:pathLst>
                  <a:path w="480" h="680">
                    <a:moveTo>
                      <a:pt x="0" y="680"/>
                    </a:moveTo>
                    <a:cubicBezTo>
                      <a:pt x="40" y="444"/>
                      <a:pt x="80" y="208"/>
                      <a:pt x="144" y="104"/>
                    </a:cubicBezTo>
                    <a:cubicBezTo>
                      <a:pt x="208" y="0"/>
                      <a:pt x="328" y="40"/>
                      <a:pt x="384" y="56"/>
                    </a:cubicBezTo>
                    <a:cubicBezTo>
                      <a:pt x="440" y="72"/>
                      <a:pt x="464" y="176"/>
                      <a:pt x="480" y="20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98800" y="3517560"/>
              <a:ext cx="1104840" cy="8190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1200" y="34941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14880" y="3581280"/>
            <a:ext cx="1845720" cy="1214280"/>
            <a:chOff x="6014880" y="3581280"/>
            <a:chExt cx="1845720" cy="1214280"/>
          </a:xfrm>
        </p:grpSpPr>
        <p:sp>
          <p:nvSpPr>
            <p:cNvPr id="73" name=""/>
            <p:cNvSpPr/>
            <p:nvPr/>
          </p:nvSpPr>
          <p:spPr>
            <a:xfrm>
              <a:off x="6460560" y="35812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ex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755400" y="3978000"/>
              <a:ext cx="1104840" cy="8175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267320" y="3946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4880" y="3997080"/>
              <a:ext cx="833400" cy="6984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3" y="12574"/>
                  </a:moveTo>
                  <a:arcTo wR="-8837" hR="-8837" stAng="10105231" swAng="-10105231"/>
                  <a:lnTo>
                    <a:pt x="0" y="10800"/>
                  </a:lnTo>
                  <a:arcTo wR="10800" hR="10800" stAng="10800000" swAng="10105231"/>
                  <a:lnTo>
                    <a:pt x="24025" y="8090"/>
                  </a:lnTo>
                  <a:lnTo>
                    <a:pt x="21158" y="12436"/>
                  </a:lnTo>
                  <a:lnTo>
                    <a:pt x="16812" y="956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62160" y="1190520"/>
            <a:ext cx="7881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ear stress and structural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risk of fr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27800" y="5270400"/>
            <a:ext cx="1219320" cy="134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62120" y="2665440"/>
            <a:ext cx="1643040" cy="3108960"/>
            <a:chOff x="2562120" y="2665440"/>
            <a:chExt cx="1643040" cy="31089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562120" y="2665440"/>
              <a:ext cx="1643040" cy="27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809440" y="54370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Produc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72120" y="2665440"/>
            <a:ext cx="1677960" cy="3132720"/>
            <a:chOff x="5172120" y="2665440"/>
            <a:chExt cx="1677960" cy="313272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172120" y="2665440"/>
              <a:ext cx="167796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436720" y="546084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roduc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163520" y="384120"/>
            <a:ext cx="7664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reating the S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39760" y="1065240"/>
            <a:ext cx="76644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ent fractures not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Grades depending on clinical imp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s I, II, III,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63520" y="358920"/>
            <a:ext cx="7664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reating the S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50960" y="2185920"/>
            <a:ext cx="4038480" cy="282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416640" y="2602080"/>
            <a:ext cx="1390680" cy="178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384200" y="5064120"/>
            <a:ext cx="54104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08880" y="5291280"/>
            <a:ext cx="117000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460520"/>
            <a:ext cx="3056040" cy="4556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343400" y="1676520"/>
            <a:ext cx="4138560" cy="400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349360" y="2006640"/>
            <a:ext cx="213372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72280" y="1905120"/>
            <a:ext cx="2514600" cy="3276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39760" y="1065240"/>
            <a:ext cx="76644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ent fractures not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63520" y="358920"/>
            <a:ext cx="7664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reating the S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4560" y="1047600"/>
            <a:ext cx="746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tructure that generates much less ten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k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8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8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lent scaffolding in b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871720" y="2668680"/>
            <a:ext cx="3932280" cy="3230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85760" y="369720"/>
            <a:ext cx="79977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he Edwards LifeStent 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024680" y="5210280"/>
            <a:ext cx="1495440" cy="13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30440" y="2131920"/>
            <a:ext cx="6459480" cy="3697560"/>
            <a:chOff x="1630440" y="2131920"/>
            <a:chExt cx="6459480" cy="36975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630440" y="3711600"/>
              <a:ext cx="6459480" cy="21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630440" y="2131920"/>
              <a:ext cx="64594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085760" y="369720"/>
            <a:ext cx="79977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The Edwards LifeStent 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22400" y="1108080"/>
            <a:ext cx="74692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iple helic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ble to almost any type of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_Turrisi</cp:lastModifiedBy>
  <dcterms:modified xsi:type="dcterms:W3CDTF">2007-06-08T06:10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